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010-B5BF-46E9-A8AC-58F8FF53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94B-A75B-4E52-8E50-E271657E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C49-B3FE-4040-A9E2-4FA5D6A1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D2E-FCB5-4F9D-BE68-EF58A153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3EE-655F-41BB-BD46-CD72B61B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489-A9BB-4D0E-A389-D2F0A3AD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AF8-75D8-469E-ABC9-05374B7B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177E-179B-42A4-B5A7-1C3B537E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C98-B15E-4AB0-BA23-BDA8EB9E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43F7-E957-4C47-8CD4-94603572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DDA-261D-41C5-AFDB-A74FE70C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E48-166C-4C5D-AABA-93CB0E2F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FDA1-F6FF-4769-870F-BAB876725DB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Fred2_ExecCmd/FRED2_TXT2BD.vbp" TargetMode="External"/><Relationship Id="rId2" Type="http://schemas.openxmlformats.org/officeDocument/2006/relationships/hyperlink" Target="file:///FredGraph/Projet1.vbp" TargetMode="External"/><Relationship Id="rId3" Type="http://schemas.openxmlformats.org/officeDocument/2006/relationships/hyperlink" Target="file:///Word_Basic/Word_Basic_Appli.exe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odeling and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ew techn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ul Sal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Université de Renne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Department of Eco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Who is on the Database Market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acle ( 33 %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BM (DB2 and Informix 33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crosoft (around 15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d others (among them MySq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Who is on Datamining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Tools Mar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usiness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d many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anies which are specialized in the treatment of data management and treatment (Treasury, Cash man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recas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orecasting is consider like a « special treatment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ut with which tool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hich kinds of forecasti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w companies practice forecasting toda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 companies need  economic modeling toda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alue Cr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 have told you I am not a specialist of Corporate finance, but I have a big interest for Value Cre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alue Creation in a few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 econometric model of a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ld practice (see Warren and Shelton 1970, Journal of Fin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ew one (Tom Copeland « Value Creation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 model of a country and a model of a company : same th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es from the point of you the modelling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o from the point of view of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company collect data from real time data to annu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bmodel and the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remarks or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anies (but not only) has information system which have « automised » the process of data management and most of the basic trea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 their forecasting process, they need to be connected on equivalent information system (Reuters or Bloomberg API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y have to use tools connected on their Information systems (Excel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y need to get or to made new forecasts very of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els must be adapted quickly to new firm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tren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un an application in a Browser (Writ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ta are more and more available (BEA and F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ta are manage with a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ke a connection to a Database from your own application (Add-in in Exc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pdate automatically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rganize your own processes of work using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organize the process of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gra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t a progra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’s to do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alyze all the processes of modelling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PM (business process man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se all th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vailabl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chnolog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consider the problem of data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t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uild tools for the users (Programming very sophisticated « Macro ») with the computer level of the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echnology to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taBase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e for Inforum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eb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ess to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nguage for Web and cons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++ / Java / C# and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ML, a universel standa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llaborativ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crosoft Offic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endicino (SAP / Microsof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D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ORD 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efore and after Interne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d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ut not only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bject Oriented Programing (O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roduction of servers ever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tabase Ser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eb Serv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does the title mea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link between the expressions « Modeling » and « New technologies » targets only the introduction of « New technologies »  in our everyday modeling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y discussion has nothing to do  with any new theories or economic studies on the impact of « New technologies » and so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irconst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urses (Computing) especially in a Corporate financ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y interests for all topics connected with programming, econometrics and econom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d of course model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d for the development of « New technologi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rporate f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 am not a specialist of this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ut it gives me the possibility to discover the Information system of the company and especially the differents 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information system of companies become now the standard Information system for administration even universities (U of Maryland) per ex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ke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7200" y="1066680"/>
            <a:ext cx="7632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e needs of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or many reasons, companies needs to manage data and to treat them ( at first account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se managements and treatments have become in a way easier and easier with the building of ERP (Entreprise Ressource Plann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ut a problem : forecasting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P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is acronym simply designs a combination of computers, servers and applications (programs) on a network based and on the use of a database system to collect and to organize all kinds of information at the finest level inside a comp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 2010, all medium and big companies will be equiped by this type of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o is on the ERP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nly a few actors now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acle (Peoplesof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d some others (small market sha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big ones have « bought » the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2:26:23Z</dcterms:created>
  <dc:creator>Salmon</dc:creator>
  <dc:description/>
  <dc:language>en-US</dc:language>
  <cp:lastModifiedBy>Salmon</cp:lastModifiedBy>
  <dcterms:modified xsi:type="dcterms:W3CDTF">2006-09-14T09:19:24Z</dcterms:modified>
  <cp:revision>10</cp:revision>
  <dc:subject/>
  <dc:title>Modelling and  New technologies</dc:title>
</cp:coreProperties>
</file>